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4D-1D2A-43CC-98A8-42D456D2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964-EA9F-4B3F-AE2F-386CFF4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931-2151-4A4C-87D9-59848B0C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E3A-9D97-48EC-8C1A-6ACB0FED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176-7BE3-4FD1-BAD8-A8D39ADE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0338-211B-4899-B05B-508B067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6D35-E15D-40A3-B92C-63445C5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62F-0785-4EFB-B1DD-BC1AAF95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FEA-3201-4835-AB2C-5F8A606B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98C0-691C-4777-86C0-32984E0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95FC-5958-425E-8C1B-1A87890F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6AA-F5BF-4AF5-BD48-0D97F7F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DFB-2BC8-42D1-90A2-24B43AE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F03-3292-4F8D-A1D1-F756FF3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B06-E589-4DDF-AFA5-AD9FF83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86B-FB33-47B1-97F4-2EBB867E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3B9-26A8-4A4A-B1FC-0F2F8821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269-13CE-4F79-ADAB-3FB9FFC7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B66-3165-4BB6-8155-CE500F1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1DE-95A0-453E-9283-03E13FD2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7D5-D02B-43DC-9EF5-B1BB959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CE5-4830-42D7-B353-666BCCC2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3F8-9549-4F33-AC66-B543ECB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817-BE4E-449C-AEE1-1521056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F8C-E405-4879-8A8C-C2EA704A38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1CDC-B2AA-424F-8C2D-84A67B2891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84200"/>
            <a:ext cx="66294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330033"/>
                </a:solidFill>
                <a:latin typeface="Times New Roman"/>
              </a:rPr>
              <a:t>Irish Deaf Women’s Group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irdre Byrne-Du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hair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0033"/>
                </a:solidFill>
                <a:latin typeface="Times New Roman"/>
              </a:rPr>
              <a:t>Brief history of Irish Deaf Women’s Group</a:t>
            </a:r>
            <a:r>
              <a:rPr b="0" lang="en-IE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mbers – Irish Sign Language &amp;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guistic Minorit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graphical and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NWCI Zest 4 Grant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July 2006 – Ma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irst time (Part-time staff &amp; committ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ree workshops – Assertiveness, Citizenship and Empower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um – 10th March link to International Women’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VD – Domestic Violence, Rape &amp;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200" spc="-1" strike="noStrike">
                <a:solidFill>
                  <a:srgbClr val="330033"/>
                </a:solidFill>
                <a:latin typeface="Times New Roman"/>
              </a:rPr>
              <a:t>Worksho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76400" y="2006640"/>
          <a:ext cx="7392960" cy="3811680"/>
        </p:xfrm>
        <a:graphic>
          <a:graphicData uri="http://schemas.openxmlformats.org/drawingml/2006/table">
            <a:tbl>
              <a:tblPr/>
              <a:tblGrid>
                <a:gridCol w="2705040"/>
                <a:gridCol w="2244600"/>
                <a:gridCol w="2443320"/>
              </a:tblGrid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ower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b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Particip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Particip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Particip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af Facili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Deaf Case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af women with different iss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af from Northern Ir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DVD</a:t>
            </a: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omestic Violence, Rape and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4 Deaf women sig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unch on 8</a:t>
            </a:r>
            <a:r>
              <a:rPr b="0" lang="en-IE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March and will give to all Deaf women in Ireland for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Forum – 10</a:t>
            </a:r>
            <a:r>
              <a:rPr b="0" lang="en-IE" sz="42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 March 200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ark In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aining Strength Toge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ura Buckley ‘Past and Today – Livelihood of Deaf Wom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rolyn Nabarro (UK) ‘Gaining Strength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7 Deaf women presented about their own area – Galway, Mayo, Sligo, Limerick, Clare, Waterford, Cork, Kilkenny, Wexford, Portlaoise, Monaghan, Belfast, Kerry, West Cork, Derry and Do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330033"/>
                </a:solidFill>
                <a:latin typeface="Times New Roman"/>
              </a:rPr>
              <a:t>Irish Deaf Women’s Group’s hope for fu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t up more network of Deaf Women’s Group around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re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ed own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ull time-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80773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r>
              <a:rPr b="0" lang="en-IE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Dea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ational Women’s Council of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DW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DWG Steer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doyle</cp:lastModifiedBy>
  <dcterms:modified xsi:type="dcterms:W3CDTF">2008-02-21T10:32:20Z</dcterms:modified>
  <cp:revision>5</cp:revision>
  <dc:subject/>
  <dc:title>PowerPoint Presentation</dc:title>
</cp:coreProperties>
</file>