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28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88840" y="7282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46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38988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20680" y="9389880"/>
            <a:ext cx="29228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EFD9-DEB9-448E-9E07-87A9E416E4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88840" y="7286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46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f all tax releifs for pensions reduced to 20% from 40% would give €50 per week on state pension eliminating all pensioner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88840" y="7286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46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trospective sc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IE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 tier guaranteeing % of salary should only be in place after 1</a:t>
            </a:r>
            <a:r>
              <a:rPr b="0" lang="en-IE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 tier is guarant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88840" y="7286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46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ension principles from Government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88840" y="7286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46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Life style choices ( choice of age of retirement – enable people to contribute to pension for longer which is currently not the case- in Germany state will put more into pen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88840" y="7286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467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1.Reward everyones participation – voluntary, care work etc. not necessarily paid employ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2. Must reward all types of work including care (credited by the state with social insuran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396-6B73-40FE-8DBD-50FA74E9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A35-C1B6-4AC5-B681-804B75DC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6E8-B10B-4A28-A248-7C073319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A1E-B405-40CA-A374-ECC137B6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E8FD-5ABE-4BB4-8D63-AEB17AE7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AA0E-8ED6-4162-9B57-C470BF61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6543-0D89-4B46-926E-348B66CC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FECE-67C7-4E3D-A72C-58FC10E5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1324-A10C-4F75-A330-ECABEDD2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81CC-8695-4B82-AB27-CA0873B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1A1B-4922-4044-8303-FB53109F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039-AAD8-4FDB-A407-3B9F5F5A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1769-5595-4F6B-BB4D-F891211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113-D726-4B03-868E-F30EA05C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E762-462C-44E3-B938-75D23FA7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61D3-BC0B-466B-A043-BA10F6B2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131D-BC3E-4C75-97E4-6C9815DF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791-631C-411C-9036-002DAD36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D9F-BD7C-4307-96B1-84FBC768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92C-8E71-4BD7-B53F-4BEF8837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F94-4118-432A-8E2C-366ECC2D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1B4-2457-4EC2-9C22-6217DA9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742-E312-4EBD-B466-51581D26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AB8-AE42-4BD5-91AC-A74A5A54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49ED-93EC-4F86-8F7C-79CE821AB3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040F-13C9-4431-B045-3DDE35A597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5819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100" spc="-1" strike="noStrike">
                <a:solidFill>
                  <a:srgbClr val="ccecff"/>
                </a:solidFill>
                <a:latin typeface="Arial"/>
              </a:rPr>
              <a:t>A model of pensions for women in Ireland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41008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Presentation to Irish Women Lawyers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achel Doyle NWCI Head Outreach, July 200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49440" cy="5144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First Tier A Comprehensive Guarante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Make adequacy and individual entitlement the immediate, core function of first tier pen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Adequate universal pension for all over 66 and resident in Ire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Immediate pension justice and direct righ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Simple, transparent, equitable, comprehensiv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Equality and ethic of care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Sustainability - switch tax expenditures into first tier, increase women’s labour market participation, choice of retirement age etc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IE" sz="44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 Tier social insurance contributory pen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Ensuring maximum eligibilit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Ensure benefit calculations advantage women (gender impact assessment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Maximise access by enabling easy re-entry after periods of disruption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enable relatives assisting, including spouses of self-employed and farmers, to be insur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Transforming homemakers’ disregards into credits and awarding these retrospectively from 1973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IE" sz="44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 Tier social insurance contributory pen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Introducing gender neutral paid parental leave benefit for parents of young child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Once-off, ring fenced retrospective schem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Once adequacy in the first tier guaranteed introduce an income replacement function into 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IE" sz="3600" spc="-1" strike="noStrike">
                <a:solidFill>
                  <a:srgbClr val="ffffff"/>
                </a:solidFill>
                <a:latin typeface="Verdana"/>
              </a:rPr>
              <a:t>My long search for security in my later years has left me frustrated with the social welfare system.  I feel unvalued by the state for all the years I’ve given to caring , we were unpaid workers who took care of parents.  We saved the state a lot of money” (Mary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Verdana"/>
              </a:rPr>
              <a:t>“ </a:t>
            </a:r>
            <a:r>
              <a:rPr b="0" i="1" lang="en-IE" sz="4400" spc="-1" strike="noStrike">
                <a:solidFill>
                  <a:srgbClr val="ffffff"/>
                </a:solidFill>
                <a:latin typeface="Verdana"/>
              </a:rPr>
              <a:t>I am now seventy years of age and have received nothing from the state even though I have contributed to society by rearing the future generation”. (Catherine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ffffff"/>
                </a:solidFill>
                <a:latin typeface="Verdana"/>
              </a:rPr>
              <a:t>“ </a:t>
            </a:r>
            <a:r>
              <a:rPr b="0" lang="en-IE" sz="6000" spc="-1" strike="noStrike">
                <a:solidFill>
                  <a:srgbClr val="ffffff"/>
                </a:solidFill>
                <a:latin typeface="Verdana"/>
              </a:rPr>
              <a:t>I am a person in my own right and I would like to be as independent as possible” (Cecilia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Current Irish System-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Older population stable at 11% of to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2/3 of Older people receive State pen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Women half as likely to have pension as 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Total pensions expenditure stable as % of GNP (2.1%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Pensioner poverty now 16%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Reform issues for Irish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Issu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Adequa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Equ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Sustaina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Individualis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Govern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Verdana"/>
              </a:rPr>
              <a:t>Current Rea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Low state pen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Voluntary 2nd t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Retain tax relief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Looming cri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Not a central issu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No discus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inciples of Feminist Pension Refor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Economic autonomy, d</a:t>
            </a:r>
            <a:r>
              <a:rPr b="0" lang="en-IE" sz="3200" spc="-1" strike="noStrike" u="sng">
                <a:solidFill>
                  <a:srgbClr val="ffffff"/>
                </a:solidFill>
                <a:uFillTx/>
                <a:latin typeface="Verdana"/>
              </a:rPr>
              <a:t>irect </a:t>
            </a: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pension right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Labour Market Equality - addresses cumulative labour market inequalit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Facilitating atypical work, - fully inclu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Ethic of Car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Equal sharing of care obligation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Verdana"/>
              </a:rPr>
              <a:t>Retrospective pensions just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nsion principles – continu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dequacy – for a decent quality of lif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implicity, transparency, information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llowing for some provision for income replac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nsion principles – equally import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Enable flexible mobile lifestyles consistent with high levels of migratio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Enable diversity and inclusion of family formatio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Respect life style choices in relation to old ag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ustainab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Users\ciaraos\AppData\Local\Microsoft\Windows\Temporary Internet Files\Content.Outlook\JUZF2KHC\Flow_chart_page60.jpg"/>
          <p:cNvPicPr/>
          <p:nvPr/>
        </p:nvPicPr>
        <p:blipFill>
          <a:blip r:embed="rId1"/>
          <a:stretch/>
        </p:blipFill>
        <p:spPr>
          <a:xfrm>
            <a:off x="714240" y="237960"/>
            <a:ext cx="7013880" cy="5801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Model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posed three tier model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Verdana"/>
              </a:rPr>
              <a:t>The critical decision is the relative importance in the pension system of an adequate first-tier state pensi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Verdana"/>
              </a:rPr>
              <a:t>A second-tier pension should take the form of </a:t>
            </a:r>
            <a:r>
              <a:rPr b="0" i="1" lang="en-IE" sz="2800" spc="-1" strike="noStrike">
                <a:solidFill>
                  <a:srgbClr val="ffffff"/>
                </a:solidFill>
                <a:latin typeface="Verdana"/>
              </a:rPr>
              <a:t>a state earnings related pension</a:t>
            </a:r>
            <a:r>
              <a:rPr b="0" lang="en-IE" sz="2800" spc="-1" strike="noStrike">
                <a:solidFill>
                  <a:srgbClr val="ffffff"/>
                </a:solidFill>
                <a:latin typeface="Verdana"/>
              </a:rPr>
              <a:t> that builds on the existing, widely accepted social insuranc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Verdana"/>
              </a:rPr>
              <a:t>Third tier –voluntary pensions system with very limited tax incentivised savings and development of more equitable progressive savings incen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1:46:47Z</dcterms:created>
  <dc:creator>mhannan</dc:creator>
  <dc:description/>
  <dc:language>en-US</dc:language>
  <cp:lastModifiedBy>rdoyle</cp:lastModifiedBy>
  <dcterms:modified xsi:type="dcterms:W3CDTF">2009-07-03T15:34:07Z</dcterms:modified>
  <cp:revision>231</cp:revision>
  <dc:subject/>
  <dc:title>The Social Welfare System </dc:title>
</cp:coreProperties>
</file>