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877-B1D5-418A-B698-A7394B0A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E5C-69FF-499D-BA70-82D3BF17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193-7FDE-465A-A864-0C50A4C8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83F-7D4D-491B-A195-47704C61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B3C-9481-49E6-B424-003AD5B9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409-BC57-4C2B-859F-14B39A3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709-35EE-4BA5-B8F5-209812BE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8E8-7750-4109-B8FB-34707B00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BA0-4504-4263-9E2D-A0F17393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55A-9881-41EF-9951-F68928C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982-8C75-4109-92FD-29C7EA10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ED8-CB69-4DDF-8C45-AA53F9A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fld id="{534B76B8-68A2-4849-AD1D-F896E59EED14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549360"/>
            <a:ext cx="352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00"/>
                </a:solidFill>
                <a:latin typeface="Monotype Corsiva"/>
              </a:rPr>
              <a:t>Ruhama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3640" y="5589720"/>
            <a:ext cx="1008000" cy="1012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8360" y="6237360"/>
            <a:ext cx="7343640" cy="0"/>
          </a:xfrm>
          <a:prstGeom prst="line">
            <a:avLst/>
          </a:prstGeom>
          <a:ln w="1908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8360" y="549360"/>
            <a:ext cx="8207280" cy="0"/>
          </a:xfrm>
          <a:prstGeom prst="line">
            <a:avLst/>
          </a:prstGeom>
          <a:ln w="1908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uhama.ie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447560"/>
            <a:ext cx="84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Kathleen Fahy</a:t>
            </a:r>
            <a:br>
              <a:rPr sz="4800"/>
            </a:br>
            <a:br>
              <a:rPr sz="4800"/>
            </a:b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RUHAM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5997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Identification of Vict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1. Constraints on personal freed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wom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t free to socialise and build social  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cked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der permanent surveil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59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Identification of Vict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2. Control of mon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e is not free to dispose of her earnings or has no direct access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owner of the brothel/exploiter pay all or part of the woman’s income to a third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54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Identification of Vict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woman is in debt to the brothel keeper/club owner because of travel arrangements before she can earn any money or stop ‘working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woman has to earn a clearly defined minimum amount of money per day or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54943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Identification of Vict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3. Situations at ‘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e is under permanent surveillance by the ow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e cannot make decision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rvices offered or refuse any cl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orks’ long hours with no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9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Identification of Vict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4.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woman was not informed about her involvement in the sex industry or got misleading information and void contracts about her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9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Identification of Vict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5. Other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woman has no pas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woman is fea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n English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igns of bruising or bat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cently brought into the country from E. Europe, Asia, Africa or S.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59752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The context of the sex industry in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ing normalisation of prostitution and demand for the purchase of sexu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luc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olvement of cri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0% of women in in-door prostitution are non - Irish nati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ole of moder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Profile 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uhama has come in contact with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over 150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omen who were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3200" spc="-1" strike="noStrike">
                <a:solidFill>
                  <a:srgbClr val="000000"/>
                </a:solidFill>
                <a:latin typeface="Arial"/>
              </a:rPr>
              <a:t>Presumed Traffi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ge: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17 – 32 years old (majority 18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Education: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Low level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ocio economic background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: Generally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ny of the women are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m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raffick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Boyfriend, a Stranger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ividual or Organized Criminal G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Profile of Women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ychological Har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ressed by Dis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xiety/ /Depression/Flashb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elf-esteem and feelings of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Profile of Women</a:t>
            </a:r>
            <a:r>
              <a:rPr b="0" i="1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Har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’s/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egnancy through pro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due to the harm &amp; stigma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33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00"/>
                </a:solidFill>
                <a:latin typeface="Times New Roman"/>
              </a:rPr>
              <a:t>Introduction to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ntroduction to Ruh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 of Traffi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dentification of Vict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rofile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racti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Practic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dden nature of sex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control of Traff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loyalty to pimp/trafficker; t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e complex relationship where she may believe he is protecting her from authorities and she is dependent o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0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Practice Issues</a:t>
            </a:r>
            <a:r>
              <a:rPr b="1" lang="en-IE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apment in the Sex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victim’s mistrust of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ty for women and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640" y="333360"/>
            <a:ext cx="650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Proposed Legislation &amp; Governmen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Victim protection not included </a:t>
            </a: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the current Bill on Traffi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The soon to be 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published Immigration and Residency Bill</a:t>
            </a: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 is to address the issue of victim prot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Submission to Strategy due 30</a:t>
            </a:r>
            <a:r>
              <a:rPr b="1" lang="en-IE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06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uham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ll Hallows College, Grace Park Rd, Drumcondra, Dubli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Tel:  01 836 02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uhama.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770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Introduction to Ruh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stablished 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ustees: Good Shepherd &amp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ur Lady of Charity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6141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Ruhama’s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Outre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One to one support   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(Individuality of Victi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dvocacy &amp; R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efri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upport to Acces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upport with Repatriation &amp; Integration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0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Times New Roman"/>
              </a:rPr>
              <a:t>Ruhama’s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(English/Compu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un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Awareness Raising/Campaign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0629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UN Definition of Trafficking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2133360"/>
            <a:ext cx="820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king in persons shall mean the recruitment, transportation, transfer, harboring or receipt of persons by means of the threat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 of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ther forms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er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fraud,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use of power or of a position of vulner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f the giving or receiving of payments or benefits to achieve the consent of a person having control over another person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the purpose of exploi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xploitation shall include, at a minimum, the exploitation of the prostitution of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0629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riminal Law (Human Trafficking Bill)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(2.a) Means procures, recruits, transports or harbours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(2.b) causes a person to enter or leave the State or to travel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within the Stat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5) A person who trafficks another person for the purpose of sexual exploitation if the trafficker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sed force, coe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ducted, de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use of power or took advantage of vuln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3579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Arial"/>
              </a:rPr>
              <a:t>The difference between Trafficking &amp; Smugg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muggling, the smuggler is paid a fee when the migrant arrives at the destination and the relationship stop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Trafficking, the exploitation continues and the main source of revenue for the offender will come from the exploitation that takes place after the person arr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614196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6600"/>
                </a:solidFill>
                <a:latin typeface="Arial"/>
              </a:rPr>
              <a:t>The difference between Trafficking &amp; Smugg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muggling is always </a:t>
            </a:r>
            <a:r>
              <a:rPr b="1" i="1" lang="en-IE" sz="3200" spc="-1" strike="noStrike">
                <a:solidFill>
                  <a:srgbClr val="000000"/>
                </a:solidFill>
                <a:latin typeface="Arial"/>
              </a:rPr>
              <a:t>transnational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n nature, but trafficking may or may no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person </a:t>
            </a:r>
            <a:r>
              <a:rPr b="1" i="1" lang="en-IE" sz="3200" spc="-1" strike="noStrike">
                <a:solidFill>
                  <a:srgbClr val="000000"/>
                </a:solidFill>
                <a:latin typeface="Arial"/>
              </a:rPr>
              <a:t>consent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to being smuggled but even if the person who is trafficked originally consented to travel or choice of work, this consent is irrelevant when exploitation take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8:34:51Z</dcterms:created>
  <dc:creator>Maura</dc:creator>
  <dc:description/>
  <dc:language>en-US</dc:language>
  <cp:lastModifiedBy>michelles</cp:lastModifiedBy>
  <dcterms:modified xsi:type="dcterms:W3CDTF">2007-12-17T12:57:57Z</dcterms:modified>
  <cp:revision>196</cp:revision>
  <dc:subject/>
  <dc:title>Introduction Slide</dc:title>
</cp:coreProperties>
</file>