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958A-F721-4093-AC5A-2F8B472F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4927-D1AF-4F49-B636-C545B068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599D-B3FB-4ED4-820C-638AA1ED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E82F-58A0-448C-8B33-68147769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11A3-C4E1-4AA1-AC1E-4EFB66B3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36BA-E07C-4D6F-B125-24E76C0C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0C27-EAAC-4D01-84D0-91E4584B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1CE6-3D1F-4F25-A2A0-8728A125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9F7D-7E24-4079-8FA4-9042DAE2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EDB6-F712-4078-A444-0AFE1BB1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75FC-717B-4BAF-B93C-BFEDFB7A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6967-12C0-4AE9-8DEB-CA24A348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CBDE-B74F-4BCD-92B2-A516097D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E80F-8D2F-4AEC-BCCA-3229FE30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5B13-4CBB-49A5-B567-A6B2B533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7C92-C3BC-4091-9B7B-C91C692E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3E82-62D1-4187-AC52-57841E96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C49A-0D31-40C9-AA7B-00308C7D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C2F8-0E84-47EC-9306-0FC69A9C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9F13-9F89-43FE-AE6F-C224108B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636C-3FE6-4946-A2DB-D073470F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7E07-A030-4D43-96F3-EA65305E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3F9A-C809-41A1-8B9D-2032BDAC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6998-5D75-4D40-BF06-AB7CD61F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84d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rebuchet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84d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rebuchet MS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21400"/>
            <a:ext cx="1905120" cy="3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8320" y="6497640"/>
            <a:ext cx="2895840" cy="3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6FE8-295B-41FE-A0E9-D4F5D7A8284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rebuchet MS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rebuchet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4d9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rebuchet MS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rebuchet MS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21400"/>
            <a:ext cx="1905120" cy="3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21400"/>
            <a:ext cx="3279960" cy="3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10800" y="5962320"/>
            <a:ext cx="5857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33A6-8BDB-4224-B239-7B3666E1DE8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816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Trebuchet MS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Trebuchet MS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rebuchet MS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rebuchet MS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144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3366"/>
                </a:solidFill>
                <a:latin typeface="Trebuchet MS"/>
              </a:rPr>
              <a:t>NWCI 2008 Pre-Budget Submission</a:t>
            </a: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5257800"/>
            <a:ext cx="4267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3366"/>
                </a:solidFill>
                <a:latin typeface="Trebuchet MS"/>
              </a:rPr>
              <a:t>Presented by: </a:t>
            </a:r>
            <a:br>
              <a:rPr sz="3000"/>
            </a:br>
            <a:r>
              <a:rPr b="1" lang="en-IE" sz="3000" spc="-1" strike="noStrike">
                <a:solidFill>
                  <a:srgbClr val="003366"/>
                </a:solidFill>
                <a:latin typeface="Trebuchet MS"/>
              </a:rPr>
              <a:t>Orla O’Connor</a:t>
            </a:r>
            <a:br>
              <a:rPr sz="3000"/>
            </a:br>
            <a:r>
              <a:rPr b="1" lang="en-IE" sz="3000" spc="-1" strike="noStrike">
                <a:solidFill>
                  <a:srgbClr val="003366"/>
                </a:solidFill>
                <a:latin typeface="Trebuchet MS"/>
              </a:rPr>
              <a:t>Head of Policy, NWCI</a:t>
            </a:r>
            <a:endParaRPr b="0" lang="en-US" sz="30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49440" cy="514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920" y="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71360"/>
            <a:ext cx="538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3366"/>
                </a:solidFill>
                <a:latin typeface="Trebuchet MS"/>
              </a:rPr>
              <a:t>24</a:t>
            </a:r>
            <a:r>
              <a:rPr b="1" lang="en-IE" sz="2200" spc="-1" strike="noStrike" baseline="30000">
                <a:solidFill>
                  <a:srgbClr val="003366"/>
                </a:solidFill>
                <a:latin typeface="Trebuchet MS"/>
              </a:rPr>
              <a:t>th</a:t>
            </a:r>
            <a:r>
              <a:rPr b="1" lang="en-IE" sz="2200" spc="-1" strike="noStrike">
                <a:solidFill>
                  <a:srgbClr val="003366"/>
                </a:solidFill>
                <a:latin typeface="Trebuchet MS"/>
              </a:rPr>
              <a:t> October 2007</a:t>
            </a:r>
            <a:endParaRPr b="0" lang="en-US" sz="22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9140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3366"/>
                </a:solidFill>
                <a:latin typeface="Trebuchet MS"/>
              </a:rPr>
              <a:t>Pre-Budget 2008 Submission</a:t>
            </a: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Social Welfare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Women’s Health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Childcare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Migration and Anti-Racism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Violence Against Women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Decision Making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3283-99E6-425F-B43E-233D28CF0FEF}" type="slidenum">
              <a:t>2</a:t>
            </a:fld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3366"/>
                </a:solidFill>
                <a:latin typeface="Trebuchet MS"/>
              </a:rPr>
              <a:t>Social Welfare</a:t>
            </a: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Increase Personal Social Welfare Rates by €18.00.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Increase Child Benefit for the 1</a:t>
            </a:r>
            <a:r>
              <a:rPr b="0" lang="en-IE" sz="2800" spc="-1" strike="noStrike" baseline="30000">
                <a:solidFill>
                  <a:srgbClr val="003366"/>
                </a:solidFill>
                <a:latin typeface="Trebuchet MS"/>
                <a:ea typeface="Times New Roman"/>
              </a:rPr>
              <a:t>st</a:t>
            </a: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 and 2</a:t>
            </a:r>
            <a:r>
              <a:rPr b="0" lang="en-IE" sz="2800" spc="-1" strike="noStrike" baseline="30000">
                <a:solidFill>
                  <a:srgbClr val="003366"/>
                </a:solidFill>
                <a:latin typeface="Trebuchet MS"/>
                <a:ea typeface="Times New Roman"/>
              </a:rPr>
              <a:t>nd</a:t>
            </a: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 child by €10 per month and by €15 for the 3</a:t>
            </a:r>
            <a:r>
              <a:rPr b="0" lang="en-IE" sz="2800" spc="-1" strike="noStrike" baseline="30000">
                <a:solidFill>
                  <a:srgbClr val="003366"/>
                </a:solidFill>
                <a:latin typeface="Trebuchet MS"/>
                <a:ea typeface="Times New Roman"/>
              </a:rPr>
              <a:t>rd</a:t>
            </a: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 and subsequent child.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Increase OPFP by €18.00.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Increase </a:t>
            </a:r>
            <a:r>
              <a:rPr b="0" lang="en-IE" sz="2800" spc="-1" strike="noStrike" u="sng">
                <a:solidFill>
                  <a:srgbClr val="003366"/>
                </a:solidFill>
                <a:uFillTx/>
                <a:latin typeface="Trebuchet MS"/>
                <a:ea typeface="Times New Roman"/>
              </a:rPr>
              <a:t>all </a:t>
            </a: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Child Dependent Allowances up to standard rate of €22.00.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Increase the SWA payment for people in direct provision to €40.90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1130-DD4E-4BF1-81CA-473B720A54AC}" type="slidenum">
              <a:t>3</a:t>
            </a:fld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3366"/>
                </a:solidFill>
                <a:latin typeface="Trebuchet MS"/>
              </a:rPr>
              <a:t>Economic Independence for Women</a:t>
            </a: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Trebuchet MS"/>
              </a:rPr>
              <a:t>Abolish the limitation rule for all payments.</a:t>
            </a:r>
            <a:endParaRPr b="0" lang="en-US" sz="2400" spc="-1" strike="noStrike">
              <a:solidFill>
                <a:srgbClr val="003366"/>
              </a:solidFill>
              <a:latin typeface="Trebuchet MS"/>
            </a:endParaRPr>
          </a:p>
          <a:p>
            <a:pPr marL="457200" indent="-457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Trebuchet MS"/>
              </a:rPr>
              <a:t> </a:t>
            </a:r>
            <a:r>
              <a:rPr b="0" lang="en-IE" sz="2400" spc="-1" strike="noStrike">
                <a:solidFill>
                  <a:srgbClr val="003366"/>
                </a:solidFill>
                <a:latin typeface="Trebuchet MS"/>
              </a:rPr>
              <a:t>Provide for full payments to all qualified adults and pay them directly </a:t>
            </a:r>
            <a:endParaRPr b="0" lang="en-US" sz="2400" spc="-1" strike="noStrike">
              <a:solidFill>
                <a:srgbClr val="003366"/>
              </a:solidFill>
              <a:latin typeface="Trebuchet MS"/>
            </a:endParaRPr>
          </a:p>
          <a:p>
            <a:pPr marL="457200" indent="-457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Trebuchet MS"/>
              </a:rPr>
              <a:t>Change the ‘disregards’ in the homemakers scheme into ‘credits’ and make them retrospective to 1973.</a:t>
            </a:r>
            <a:endParaRPr b="0" lang="en-US" sz="2400" spc="-1" strike="noStrike">
              <a:solidFill>
                <a:srgbClr val="003366"/>
              </a:solidFill>
              <a:latin typeface="Trebuchet MS"/>
            </a:endParaRPr>
          </a:p>
          <a:p>
            <a:pPr marL="457200" indent="-457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Trebuchet MS"/>
              </a:rPr>
              <a:t>Introduce a means-tested parental allowance for all low-income parents of children up to age 8 years and a part-time parental allowance for all low-income parents of children aged 8 to 14.</a:t>
            </a:r>
            <a:endParaRPr b="0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D34B-8DE3-4CEE-892E-A60A960AFF4A}" type="slidenum">
              <a:t>4</a:t>
            </a:fld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3366"/>
                </a:solidFill>
                <a:latin typeface="Trebuchet MS"/>
              </a:rPr>
              <a:t>Health &amp; Well Being of Women</a:t>
            </a: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 algn="just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Full national rollout of Cervical and Breast Screening</a:t>
            </a:r>
            <a:endParaRPr b="0" lang="en-US" sz="2500" spc="-1" strike="noStrike">
              <a:solidFill>
                <a:srgbClr val="003366"/>
              </a:solidFill>
              <a:latin typeface="Trebuchet MS"/>
            </a:endParaRPr>
          </a:p>
          <a:p>
            <a:pPr marL="376200" indent="-376200" algn="just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Provide medical cards to all children up to age 18.</a:t>
            </a:r>
            <a:endParaRPr b="0" lang="en-US" sz="2500" spc="-1" strike="noStrike">
              <a:solidFill>
                <a:srgbClr val="003366"/>
              </a:solidFill>
              <a:latin typeface="Trebuchet MS"/>
            </a:endParaRPr>
          </a:p>
          <a:p>
            <a:pPr marL="376200" indent="-376200" algn="just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Allocate resources of </a:t>
            </a:r>
            <a:r>
              <a:rPr b="0" lang="en-IE" sz="24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€</a:t>
            </a:r>
            <a:r>
              <a:rPr b="0" lang="en-IE" sz="25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16.5m to community based women’s organisations and a specific budget line for the National Traveller Health Strategy</a:t>
            </a:r>
            <a:endParaRPr b="0" lang="en-US" sz="2500" spc="-1" strike="noStrike">
              <a:solidFill>
                <a:srgbClr val="003366"/>
              </a:solidFill>
              <a:latin typeface="Trebuchet MS"/>
            </a:endParaRPr>
          </a:p>
          <a:p>
            <a:pPr marL="376200" indent="-376200" algn="just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Introduce a cost of disability payment for disabled people.</a:t>
            </a:r>
            <a:endParaRPr b="0" lang="en-US" sz="25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8E75-4575-4687-8672-709AEE3422D6}" type="slidenum">
              <a:t>5</a:t>
            </a:fld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3366"/>
                </a:solidFill>
                <a:latin typeface="Trebuchet MS"/>
              </a:rPr>
              <a:t>Migration and Anti -Racism</a:t>
            </a: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Trebuchet MS"/>
              </a:rPr>
              <a:t>Allocate </a:t>
            </a: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€10million to the fund for Initiatives to Support the Integration of Legally resident Immigrants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Allocate €3milion for the implementation of the National Action Plan Against Racism  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4CC8-7B71-4455-8C07-75A908745CB9}" type="slidenum">
              <a:t>6</a:t>
            </a:fld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3366"/>
                </a:solidFill>
                <a:latin typeface="Trebuchet MS"/>
              </a:rPr>
              <a:t>Childcare</a:t>
            </a: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1160" indent="-281160" algn="just">
              <a:lnSpc>
                <a:spcPct val="90000"/>
              </a:lnSpc>
              <a:spcBef>
                <a:spcPts val="7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9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Introduce 4 weeks paid parental leave.</a:t>
            </a:r>
            <a:endParaRPr b="0" lang="en-US" sz="2900" spc="-1" strike="noStrike">
              <a:solidFill>
                <a:srgbClr val="003366"/>
              </a:solidFill>
              <a:latin typeface="Trebuchet MS"/>
            </a:endParaRPr>
          </a:p>
          <a:p>
            <a:pPr marL="281160" indent="-281160" algn="just">
              <a:lnSpc>
                <a:spcPct val="90000"/>
              </a:lnSpc>
              <a:spcBef>
                <a:spcPts val="7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9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Introduce 5 days paternity leave.</a:t>
            </a:r>
            <a:endParaRPr b="0" lang="en-US" sz="2900" spc="-1" strike="noStrike">
              <a:solidFill>
                <a:srgbClr val="003366"/>
              </a:solidFill>
              <a:latin typeface="Trebuchet MS"/>
            </a:endParaRPr>
          </a:p>
          <a:p>
            <a:pPr marL="281160" indent="-281160" algn="just">
              <a:lnSpc>
                <a:spcPct val="90000"/>
              </a:lnSpc>
              <a:spcBef>
                <a:spcPts val="7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9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Initiate Universal early education for 3 and 4 year olds on a phased implementation over 3 years.</a:t>
            </a:r>
            <a:endParaRPr b="0" lang="en-US" sz="2900" spc="-1" strike="noStrike">
              <a:solidFill>
                <a:srgbClr val="003366"/>
              </a:solidFill>
              <a:latin typeface="Trebuchet MS"/>
            </a:endParaRPr>
          </a:p>
          <a:p>
            <a:pPr marL="281160" indent="-281160" algn="just">
              <a:lnSpc>
                <a:spcPct val="90000"/>
              </a:lnSpc>
              <a:spcBef>
                <a:spcPts val="7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9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Initiate subsidised extended care for 3 and 4 year olds on a phased implementation over 3 years.</a:t>
            </a:r>
            <a:endParaRPr b="0" lang="en-US" sz="29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693F-6489-4612-BB72-16BBEB36C1A7}" type="slidenum">
              <a:t>7</a:t>
            </a:fld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7848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3366"/>
                </a:solidFill>
                <a:latin typeface="Trebuchet MS"/>
              </a:rPr>
              <a:t>Violence Against Women</a:t>
            </a:r>
            <a:r>
              <a:rPr b="1" lang="en-IE" sz="3600" spc="-1" strike="noStrike">
                <a:solidFill>
                  <a:srgbClr val="003366"/>
                </a:solidFill>
                <a:latin typeface="Baskerville Old Face"/>
                <a:ea typeface="Times New Roman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 algn="just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Establish a national funding framework for NGO’s working on violence against women through the COSC Office. </a:t>
            </a:r>
            <a:endParaRPr b="0" lang="en-US" sz="2500" spc="-1" strike="noStrike">
              <a:solidFill>
                <a:srgbClr val="003366"/>
              </a:solidFill>
              <a:latin typeface="Trebuchet MS"/>
            </a:endParaRPr>
          </a:p>
          <a:p>
            <a:pPr marL="376200" indent="-376200" algn="just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Develop dedicated budget lines in the 6 Government departments which have a role in responding to, and preventing violence against women</a:t>
            </a:r>
            <a:endParaRPr b="0" lang="en-US" sz="2500" spc="-1" strike="noStrike">
              <a:solidFill>
                <a:srgbClr val="003366"/>
              </a:solidFill>
              <a:latin typeface="Trebuchet MS"/>
            </a:endParaRPr>
          </a:p>
          <a:p>
            <a:pPr marL="376200" indent="-376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Distribution of the</a:t>
            </a:r>
            <a:r>
              <a:rPr b="1" lang="en-IE" sz="25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 </a:t>
            </a:r>
            <a:r>
              <a:rPr b="0" lang="en-IE" sz="2400" spc="-1" strike="noStrike">
                <a:solidFill>
                  <a:srgbClr val="003366"/>
                </a:solidFill>
                <a:latin typeface="Trebuchet MS"/>
              </a:rPr>
              <a:t>€4.5million allocated in Budget 2007 in addition to 2008 expenditure</a:t>
            </a:r>
            <a:endParaRPr b="0" lang="en-US" sz="2400" spc="-1" strike="noStrike">
              <a:solidFill>
                <a:srgbClr val="003366"/>
              </a:solidFill>
              <a:latin typeface="Trebuchet MS"/>
            </a:endParaRPr>
          </a:p>
          <a:p>
            <a:pPr marL="3762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B8BC-595B-44E5-93A7-4E3AA3108382}" type="slidenum">
              <a:t>8</a:t>
            </a:fld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3366"/>
                </a:solidFill>
                <a:latin typeface="Trebuchet MS"/>
              </a:rPr>
              <a:t>Decision Making</a:t>
            </a: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1160" indent="-28116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Trebuchet MS"/>
              </a:rPr>
              <a:t>Allocate €4million to support the development of community based women’s organisations and networks.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2811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281160" indent="-28116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Trebuchet MS"/>
              </a:rPr>
              <a:t>Allocate €2.5 million for the establishment of supports to promote the participation of women in political decision making.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2CBE-D27C-4DF0-9545-DB483B02475D}" type="slidenum">
              <a:t>9</a:t>
            </a:fld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1:46:47Z</dcterms:created>
  <dc:creator>mhannan</dc:creator>
  <dc:description/>
  <dc:language>en-US</dc:language>
  <cp:lastModifiedBy>valerie</cp:lastModifiedBy>
  <dcterms:modified xsi:type="dcterms:W3CDTF">2007-10-23T09:30:04Z</dcterms:modified>
  <cp:revision>209</cp:revision>
  <dc:subject/>
  <dc:title>The Social Welfare System </dc:title>
</cp:coreProperties>
</file>