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19D-027F-40A7-8DA7-008D77CE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6EE-61E2-47BA-AEF8-FAA9067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18A-27C2-486A-9FD1-171B3EDC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0B6-28CE-4596-9196-59E79C08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EDF8-E1A0-4479-BD99-5599204F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8BA-9DB9-441F-AB75-E4A7497C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DFF-F86C-432C-8539-A5FF7977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44D-E3AF-4D55-A56E-38C8E658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D194-BF37-4578-88C6-494E19C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A7B9-7829-47B4-8A19-63BF382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D322-CDE0-4067-8FEC-7E1077E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6A0-2E9A-4B25-B14C-5E942548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692-8625-4EAF-B580-013CA00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F49E-8A58-4030-B1FC-350EBAD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26C-110E-4C42-9808-6D03FEE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4672-9260-41BA-B59E-A9286288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5C1-F261-482F-8031-A93E40F4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170-38DE-41E6-8DC7-05A9EC1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CF9-FE40-49FA-9C3F-29ED03B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C4A-6912-456D-90BE-D99803A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075-2D6C-4B91-AF65-643C1DEB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655-50F7-416A-AD8C-EF22AED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B1A-599A-4855-B49C-2B9FBAA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4D4-004E-4C42-92CA-5E0AFEB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4d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4d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8320" y="6497640"/>
            <a:ext cx="289584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5D6-60BC-4F51-852C-A75A2C7EC0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4d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21400"/>
            <a:ext cx="327996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C16-C5B9-447F-B874-5B4AD7A6E5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NWCI 2008 Pre-Budget Submiss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257800"/>
            <a:ext cx="426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Presented by: </a:t>
            </a:r>
            <a:br>
              <a:rPr sz="3000"/>
            </a:b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Orla O’Connor</a:t>
            </a:r>
            <a:br>
              <a:rPr sz="3000"/>
            </a:b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Head of Policy, NWCI</a:t>
            </a:r>
            <a:endParaRPr b="0" lang="en-US" sz="3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49440" cy="51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1360"/>
            <a:ext cx="53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3366"/>
                </a:solidFill>
                <a:latin typeface="Trebuchet MS"/>
              </a:rPr>
              <a:t>24</a:t>
            </a:r>
            <a:r>
              <a:rPr b="1" lang="en-IE" sz="2200" spc="-1" strike="noStrike" baseline="30000">
                <a:solidFill>
                  <a:srgbClr val="003366"/>
                </a:solidFill>
                <a:latin typeface="Trebuchet MS"/>
              </a:rPr>
              <a:t>th</a:t>
            </a:r>
            <a:r>
              <a:rPr b="1" lang="en-IE" sz="2200" spc="-1" strike="noStrike">
                <a:solidFill>
                  <a:srgbClr val="003366"/>
                </a:solidFill>
                <a:latin typeface="Trebuchet MS"/>
              </a:rPr>
              <a:t> October 2007</a:t>
            </a:r>
            <a:endParaRPr b="0" lang="en-US" sz="2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Pre-Budget 2008 Submissio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Social Welfar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Women’s Health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Childcar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Migration and Anti-Racism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Violence Against Women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1BD-B031-4665-AEF8-3C8681684D33}" type="slidenum">
              <a:t>2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Social Welfar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Personal Social Welfare Rates by €18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Child Benefit for the 1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st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and 2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nd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child by €10 per month and by €15 for the 3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rd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and subsequent child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OPFP by €18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</a:t>
            </a:r>
            <a:r>
              <a:rPr b="0" lang="en-IE" sz="2800" spc="-1" strike="noStrike" u="sng">
                <a:solidFill>
                  <a:srgbClr val="003366"/>
                </a:solidFill>
                <a:uFillTx/>
                <a:latin typeface="Trebuchet MS"/>
                <a:ea typeface="Times New Roman"/>
              </a:rPr>
              <a:t>all 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Child Dependent Allowances up to standard rate of €22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the SWA payment for people in direct provision to €40.90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A6E-776C-45CC-964C-6A8B29363E9E}" type="slidenum">
              <a:t>3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Economic Independence for Wome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Abolish the limitation rule for all payments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Provide for full payments to all qualified adults and pay them directly 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Change the ‘disregards’ in the homemakers scheme into ‘credits’ and make them retrospective to 1973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Introduce a means-tested parental allowance for all low-income parents of children up to age 8 years and a part-time parental allowance for all low-income parents of children aged 8 to 14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CC1-47EA-443E-AEF8-BBF9DB89B4BB}" type="slidenum">
              <a:t>4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Health &amp; Well Being of Wome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Full national rollout of Cervical and Breast Screening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Provide medical cards to all children up to age 18.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llocate resources of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€</a:t>
            </a: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16.5m to community based women’s organisations and a specific budget line for the National Traveller Health Strategy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a cost of disability payment for disabled people.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4CF-070E-4FF8-BF8E-E5953DF69574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Migration and Anti -Racism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€10million to the fund for Initiatives to Support the Integration of Legally resident Immigrant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llocate €3milion for the implementation of the National Action Plan Against Racism 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6CE-3215-48C2-8D7C-464B52FCAEFC}" type="slidenum">
              <a:t>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Childcar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4 weeks paid parental leave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5 days paternity leave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itiate Universal early education for 3 and 4 year olds on a phased implementation over 3 years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itiate subsidised extended care for 3 and 4 year olds on a phased implementation over 3 years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C52-F6A8-4F9C-9BB3-231D56130405}" type="slidenum">
              <a:t>7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Violence Against Women</a:t>
            </a:r>
            <a:r>
              <a:rPr b="1" lang="en-IE" sz="3600" spc="-1" strike="noStrike">
                <a:solidFill>
                  <a:srgbClr val="003366"/>
                </a:solidFill>
                <a:latin typeface="Baskerville Old Face"/>
                <a:ea typeface="Times New Roman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Establish a national funding framework for NGO’s working on violence against women through the COSC Office. 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velop dedicated budget lines in the 6 Government departments which have a role in responding to, and preventing violence against women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istribution of the</a:t>
            </a:r>
            <a:r>
              <a:rPr b="1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€4.5million allocated in Budget 2007 in addition to 2008 expenditure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493-11B4-4C37-B633-31713EAD42B3}" type="slidenum">
              <a:t>8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Decision Making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€4million to support the development of community based women’s organisations and networks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€2.5 million for the establishment of supports to promote the participation of women in political decision making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C12-C02A-4140-9731-25EFD62BC0EF}" type="slidenum">
              <a:t>9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1:46:47Z</dcterms:created>
  <dc:creator>mhannan</dc:creator>
  <dc:description/>
  <dc:language>en-US</dc:language>
  <cp:lastModifiedBy>valerie</cp:lastModifiedBy>
  <dcterms:modified xsi:type="dcterms:W3CDTF">2007-10-23T09:30:04Z</dcterms:modified>
  <cp:revision>209</cp:revision>
  <dc:subject/>
  <dc:title>The Social Welfare System </dc:title>
</cp:coreProperties>
</file>