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8BA-29C5-4E54-8E2E-4EC14133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020-B467-4A05-9708-3A76B53F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CEA-A34B-4316-A242-3D6FE2C8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1EB-B6A7-46C5-ACF8-42C734DB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FF87-A1C1-4BD1-A908-EC441737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52CA-E730-463A-B6EA-4DB0ECF9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27CC-9D76-4DD0-9D01-7994CCC3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1566-2ECF-4732-B3B8-75130ECA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8891-BDCC-47F3-B8A9-26E75A40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BBD8-3041-441C-A41E-049D4CA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2519-539C-4B24-B607-5F9176DD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D46-0636-4768-B268-FB89E41D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72C9-477A-4575-807B-512E71EA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D4AB-4B57-42FF-99E0-03D1787D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5E57-3426-44B0-8E6D-2A36F58D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D49F-4627-4540-A1C5-4353083D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D9EA-19EA-4FCC-9448-F0163C00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9E0-D99A-4B95-B313-144D6056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05C-2662-45D3-814A-85372837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8F9-45E4-4F48-A199-D8CAE32F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83E-131F-4B82-92ED-BC42F254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A79-B8FE-4BE8-A652-85947CF0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4FD-01C3-4329-A1AD-7CC8524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D12-DE4B-4800-A695-4398665A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B3F8-5077-4CBE-AFE4-2CD765891F59}" type="datetime">
              <a:rPr b="0" lang="en-US" sz="1400" spc="-1" strike="noStrike">
                <a:solidFill>
                  <a:srgbClr val="5e574e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F991-C286-4136-ACDC-9FFE3EC9FD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64B5-12CB-45C5-BD66-626570F41EEC}" type="datetime">
              <a:rPr b="0" lang="en-US" sz="1400" spc="-1" strike="noStrike">
                <a:solidFill>
                  <a:srgbClr val="5e574e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1891-8E79-46C2-814C-355F8507E0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men and Disability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20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sula Bar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 of Social Justice, Women’s Stud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ity College Dubl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bruary 20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E95DE-6564-4F98-9831-39C56FB97CC9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men and Disability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munication b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for assistive technologies in range of employment and educational arena has not been reali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resources towards the provision of key facilities e.g. sign interpr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ce of disability awareness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funding towards adaptiv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43FFF-F2F8-4530-86F2-6F4EF3D293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 Black"/>
              </a:rPr>
              <a:t>Women and dis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Focus on experiences and needs of women with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hallenge assumption that policies are gender neu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nalyse the way inequalities in relation to gender and disability inte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Understand that women identify in different ways including as women, mothers, disabled, carers, workers, earners, cared for, students, part of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dentify policy priorities in relation to 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nsure organisation is inclusive of women with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B4345-18C5-4DEB-AFD2-986766C229FC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men and Disability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ahoma"/>
              </a:rPr>
              <a:t>Key pri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verty and ine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assistance and care issue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labour market &amp;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oductive and sexual freedo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b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2B31C-0D35-436F-A2DB-8B1CA2A41C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 Black"/>
              </a:rPr>
              <a:t>Women with Disa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mportant development – new emph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ocial model of disability – focus on the social, economic and physical environment and issues of inclusion-ex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Rights-based approach – right to equality of treatment and of opport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77E83-2C48-4306-95F5-8AEE069358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men and Disability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overty and ine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8% of women (and 52%) of men with disabilities are at risk of poverty (EU-SILC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ople with disabilities earn around EURO1.25 per hour less than non-disabled counterparts (Gannon and Nolan 200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6% of people with disabilities have only primary level educational qualifications compared to 18% of the population as a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employment rate for people with disabilities is two and a half times lower than their non-disabled peers (Census 200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id employment among disabled women is at an extremely low level ranging from 20% in older age groups to 30% in younger age group (Census 200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8DD12-2C20-447F-8DC0-127144FAA4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men and Disability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sonal Assistance and Care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ies are primary care providers and women are main carers facilitating community based systems of c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of paid care sector in Ireland is based mainly on women’s increased involvement in paid work and new sector of migrant w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men as main providers of care suffer from inadequacy of funding, training for and design of care program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policy on care can intensify gender inequalities and dependency e.g. means testing of carer’s allow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care needs are disproportionately associated with low income househo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F6990-1651-4EAF-B350-2DDBF14340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men and Disability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sonal Assistance and Care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men with disabilities are both care-providers as well as care-receivers but rarely seen as su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abled researchers and activists have challenged concepts of care that view disabled women as a ‘burden’ and contribute to the denial of caring rights to women with disa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men with disabilities deny themselves practical help and supports in order to ensure they are accepted as car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e policy often fails to distinguish between the role of carer and the carrying out of caring ta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payments to care receiver are central to issues of choice, quality of care, flexibility and independe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759F5-2053-4445-A182-8DA0DD9A1A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men and Disability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bour Market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evel of disadvantage evi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range of employment opportunities reflects high level of occupational se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ificant level of care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tion according to type of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assistance supports in training and employment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access to employmen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evel of part-time and low paid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9C5EB-48C6-484B-B7FA-3C368A6614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men and Disability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roductive and sexual freed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alence of negative attitudes and stereo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for resources and support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 of specific programmes for young people with disabilities - review of Relationship and Sex Education Programme in secondary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bility awareness training within health and social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 of specialised midwife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of personal assistance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3B9A6-46B4-4EFC-A541-347D2FC0EF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2:12:41Z</dcterms:created>
  <dc:creator>Ursula Barry</dc:creator>
  <dc:description/>
  <dc:language>en-US</dc:language>
  <cp:lastModifiedBy>rdoyle</cp:lastModifiedBy>
  <dcterms:modified xsi:type="dcterms:W3CDTF">2008-02-21T08:49:59Z</dcterms:modified>
  <cp:revision>14</cp:revision>
  <dc:subject/>
  <dc:title>Women and Disability  Literature Review</dc:title>
</cp:coreProperties>
</file>